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D64-4AF6-4D73-BFCE-E85D85F9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983-F5A6-4E02-8E46-44074FD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135-1611-45F6-8D59-884D086F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6E5-A9A2-4289-A5BA-73C79B8A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F32-22B0-4EB5-B7AB-D7B01FB1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F4B-CCDA-49D1-8393-EE309503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165-3D95-42CC-81D5-D2617DC6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976-927D-4E7B-9D27-699AC08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41C-ECDE-4F41-BFEE-5823DA9A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74A-B0B6-4AE6-A567-E4FE6AA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353-3769-468E-98F0-6DCF1A4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256-55E4-4D8E-89DF-1B81A0CF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0200-E118-4C60-951E-58A0A22D7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Study De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361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784836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5715000"/>
            <a:ext cx="777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84872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5105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349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2120" y="5638680"/>
            <a:ext cx="777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322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7925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7848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" y="5943600"/>
            <a:ext cx="7848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7924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27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76201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5486400"/>
            <a:ext cx="7620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6201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14400" y="5562720"/>
            <a:ext cx="754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04Z</dcterms:modified>
  <cp:revision>103</cp:revision>
  <dc:subject/>
  <dc:title>The Art in the State of the Art</dc:title>
</cp:coreProperties>
</file>